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558-E0CE-4AFE-A5F7-922D3E71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640-32ED-437A-8291-809C5593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6A7-8235-47DC-B9EF-80255D06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020-BB0E-42D3-BC08-C48ED7DA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522-68C8-4B66-9DFE-C89E1817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ACE-5088-4BAF-92D8-1DC6D9DD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368-8B82-4E5F-9E8F-E5007A3A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F41-B241-4CF8-B740-5EBEE36A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B8F-ED60-4C1D-AD2C-51D94A13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EAE-5AF4-4EC0-8DCB-7F845D42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043-5DE3-4B76-AB44-6229F01F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68B-E381-4550-A61D-38485EF6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BBD7-B071-4719-9204-9875AA5FA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91503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666880" y="2514600"/>
            <a:ext cx="464832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сха</a:t>
            </a:r>
            <a:endParaRPr b="1" i="1" lang="en-US" sz="6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990720" y="3886200"/>
            <a:ext cx="7238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ославные традиции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ветлый праздник Пасхи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267080" y="685440"/>
            <a:ext cx="4114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течение сорока дней Пасхи, а особенно на первой неделе — самой торжественной — ходят друг к другу в гости, дарят крашеные яйца и куличи, играют в пасхальные игры. Особой популярностью у российской ребятни в старину пользовалась игра            «Катание яиц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ajtsa50"/>
          <p:cNvPicPr/>
          <p:nvPr/>
        </p:nvPicPr>
        <p:blipFill>
          <a:blip r:embed="rId1"/>
          <a:stretch/>
        </p:blipFill>
        <p:spPr>
          <a:xfrm>
            <a:off x="6781680" y="4780080"/>
            <a:ext cx="2362320" cy="2077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7" descr="98439089949eb623968adb.jpg"/>
          <p:cNvPicPr/>
          <p:nvPr/>
        </p:nvPicPr>
        <p:blipFill>
          <a:blip r:embed="rId2"/>
          <a:stretch/>
        </p:blipFill>
        <p:spPr>
          <a:xfrm>
            <a:off x="533520" y="990720"/>
            <a:ext cx="3493800" cy="5410080"/>
          </a:xfrm>
          <a:prstGeom prst="rect">
            <a:avLst/>
          </a:prstGeom>
          <a:ln w="1908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WordArt 9"/>
          <p:cNvSpPr txBox="1"/>
          <p:nvPr/>
        </p:nvSpPr>
        <p:spPr>
          <a:xfrm>
            <a:off x="1066680" y="228600"/>
            <a:ext cx="703908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обычаи. Катание яиц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723920" y="114264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старину невозможно было представить празднование Пасхи без качелей. Во всех дворах загодя устанавливались столбы, навешивались веревки, крепились доски - возводились общественные кач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73634_or.jpg"/>
          <p:cNvPicPr/>
          <p:nvPr/>
        </p:nvPicPr>
        <p:blipFill>
          <a:blip r:embed="rId2"/>
          <a:stretch/>
        </p:blipFill>
        <p:spPr>
          <a:xfrm>
            <a:off x="749160" y="1523880"/>
            <a:ext cx="3543480" cy="4800600"/>
          </a:xfrm>
          <a:prstGeom prst="rect">
            <a:avLst/>
          </a:prstGeom>
          <a:ln w="1908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WordArt 9"/>
          <p:cNvSpPr txBox="1"/>
          <p:nvPr/>
        </p:nvSpPr>
        <p:spPr>
          <a:xfrm>
            <a:off x="1219320" y="304920"/>
            <a:ext cx="655308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схальные обычаи. Качел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random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обычаи.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Колокольный звон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течение пасхальной недели во всех храмах разрешается любому желающему звонить в колокола, поэтому отовсюду звучит беспрерывный радостный колокольный звон, поддерживая праздничное настро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792000" y="1600200"/>
            <a:ext cx="33670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zvon_.wma" descr=""/>
          <p:cNvPicPr/>
          <p:nvPr/>
        </p:nvPicPr>
        <p:blipFill>
          <a:blip r:embed="rId3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8308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914400" y="4038480"/>
            <a:ext cx="72579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" Не умирают обычаи, которым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определено быть вечными…"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Н.В.Гогол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45" name="Picture 5" descr="634759417"/>
          <p:cNvPicPr/>
          <p:nvPr/>
        </p:nvPicPr>
        <p:blipFill>
          <a:blip r:embed="rId1"/>
          <a:stretch/>
        </p:blipFill>
        <p:spPr>
          <a:xfrm>
            <a:off x="1676520" y="38088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572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Говорят, что пасху ра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тмечала вся ст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 качелях сидя, дру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лыбалась дет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Молодёжь теперь не зн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Как же Пасху отмеч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Яйца красить, кулич стря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И гостей к столу встре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аглянули в старину м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Будто дождь омыл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И сегодня вам расскаж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 Воскресении Хр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480716133"/>
          <p:cNvPicPr/>
          <p:nvPr/>
        </p:nvPicPr>
        <p:blipFill>
          <a:blip r:embed="rId1"/>
          <a:stretch/>
        </p:blipFill>
        <p:spPr>
          <a:xfrm>
            <a:off x="4648320" y="380880"/>
            <a:ext cx="43243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– это христианский праздник, который установлен в честь воскресения Иисуса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звание получено от ветхозаветного праздника Пасхи, установленного Господом в память избавления еврейского народа от рабского подчинения египтян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Слово «Пасха» означает «перехо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издавна праздновалась и по церковным канонам, и по народным обыча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676520" y="228600"/>
            <a:ext cx="62290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 - главный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христианский праздник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0" name="Picture 5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– переходный праздник. Время этого праздника определяется так: за отправную точку берётся день весеннего равноденствия (21 марта). Затем люди смотрят на ночное небо и ждут полнолуния. И то воскресенье, которое последует за этим первым весенним полнолунием, и называется Пасхой (с 4апреля по 8ма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2971800" y="609480"/>
            <a:ext cx="6172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Как вычисляется да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разднования Пасхи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-152280" y="-152280"/>
            <a:ext cx="3504960" cy="285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5"/>
          <p:cNvSpPr txBox="1"/>
          <p:nvPr/>
        </p:nvSpPr>
        <p:spPr>
          <a:xfrm>
            <a:off x="304920" y="152280"/>
            <a:ext cx="8229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Церковные каноны Пасх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7960" y="609480"/>
            <a:ext cx="4343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еликий Пост, Страстная неделя, Чистый четверг, Великая пятница, освящение пасхального уго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очное богослужение, крестное шествие вокруг хр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олоко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зв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2"/>
          <a:stretch/>
        </p:blipFill>
        <p:spPr>
          <a:xfrm>
            <a:off x="0" y="1371600"/>
            <a:ext cx="4651200" cy="3932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14800" y="380520"/>
            <a:ext cx="5029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чинается с участия в пасхальном Богослужении. Оно совершенно особенное, отличающееся от обычных церковных служб, очень «лёгкое» и радостное. В храмах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схальная служба начинается ровно в полночь, но лучше прийти в храм заранее, чтобы не оказаться за его порогом — большинство церкв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пасхальную ночь переполн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12.jpg"/>
          <p:cNvPicPr/>
          <p:nvPr/>
        </p:nvPicPr>
        <p:blipFill>
          <a:blip r:embed="rId2"/>
          <a:stretch/>
        </p:blipFill>
        <p:spPr>
          <a:xfrm>
            <a:off x="617400" y="1066680"/>
            <a:ext cx="3446640" cy="54864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WordArt 11"/>
          <p:cNvSpPr txBox="1"/>
          <p:nvPr/>
        </p:nvSpPr>
        <p:spPr>
          <a:xfrm>
            <a:off x="1447920" y="152280"/>
            <a:ext cx="5943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разднование пасх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2-688-01"/>
          <p:cNvPicPr/>
          <p:nvPr/>
        </p:nvPicPr>
        <p:blipFill>
          <a:blip r:embed="rId1"/>
          <a:stretch/>
        </p:blipFill>
        <p:spPr>
          <a:xfrm>
            <a:off x="0" y="533520"/>
            <a:ext cx="3157560" cy="3959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сле того,                                      как окончится служба, верующие «христосуются» — приветствуют друг друга целованием и словами «Христос воскресе!» Этот обычай очень древний и символизирует примирение и люб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23665513_00011a.jpg"/>
          <p:cNvPicPr/>
          <p:nvPr/>
        </p:nvPicPr>
        <p:blipFill>
          <a:blip r:embed="rId3"/>
          <a:stretch/>
        </p:blipFill>
        <p:spPr>
          <a:xfrm>
            <a:off x="1447920" y="1447920"/>
            <a:ext cx="3314520" cy="5181480"/>
          </a:xfrm>
          <a:prstGeom prst="rect">
            <a:avLst/>
          </a:prstGeom>
          <a:ln w="2844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WordArt 9"/>
          <p:cNvSpPr txBox="1"/>
          <p:nvPr/>
        </p:nvSpPr>
        <p:spPr>
          <a:xfrm>
            <a:off x="1676520" y="304920"/>
            <a:ext cx="5943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приветствие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34304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ридя до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а иногда пря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 храме,     устраивают пасхальный пир. Главные угощения пасхального стола кулич, «пасха» и крашенные яй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1" descr="07.jpg"/>
          <p:cNvPicPr/>
          <p:nvPr/>
        </p:nvPicPr>
        <p:blipFill>
          <a:blip r:embed="rId1"/>
          <a:stretch/>
        </p:blipFill>
        <p:spPr>
          <a:xfrm>
            <a:off x="304920" y="533520"/>
            <a:ext cx="3392280" cy="4525920"/>
          </a:xfrm>
          <a:prstGeom prst="rect">
            <a:avLst/>
          </a:prstGeom>
          <a:ln w="936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10" descr="pasxa22"/>
          <p:cNvPicPr/>
          <p:nvPr/>
        </p:nvPicPr>
        <p:blipFill>
          <a:blip r:embed="rId2"/>
          <a:stretch/>
        </p:blipFill>
        <p:spPr>
          <a:xfrm>
            <a:off x="7086600" y="5121360"/>
            <a:ext cx="2057400" cy="17366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1"/>
          <p:cNvSpPr txBox="1"/>
          <p:nvPr/>
        </p:nvSpPr>
        <p:spPr>
          <a:xfrm>
            <a:off x="1905120" y="15228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й пир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72" name="Picture 12" descr="03"/>
          <p:cNvPicPr/>
          <p:nvPr/>
        </p:nvPicPr>
        <p:blipFill>
          <a:blip r:embed="rId3"/>
          <a:stretch/>
        </p:blipFill>
        <p:spPr>
          <a:xfrm>
            <a:off x="228600" y="3962520"/>
            <a:ext cx="410364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0-04-16T14:10:4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